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38C7D-F27C-4701-938D-4967255A3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E3EB0-7E5D-4461-8287-C353B7874E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860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350-09D5-4703-8784-2D3EEC62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52E-4F91-48D0-BE93-083A13AF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CC3-544F-4124-A9E5-B41CDC89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076-996E-4948-BA23-EE2CC3F0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900-F39E-4339-9F60-ADE9A400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E13-21F2-45ED-8899-B53C873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F71-8AAA-4222-BB20-B7792EB4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151-D751-4861-A18C-8020F965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CE5-D59D-4588-B31F-72E3856C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75B-6168-45C0-A1F9-45204BEF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BF0-84DC-4C03-AF13-B5FFC53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D58-A31C-4DC3-8B03-062722D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E1189-E2A1-470E-9829-66FC773587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gbujic@ccf.org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nticDB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757680"/>
            <a:ext cx="64008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mezie Ogb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veland Clinic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bujic@ccf.or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/ chimezie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62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ebruary 14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023CC-9962-4548-B470-3B814068BD3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09680"/>
            <a:ext cx="9140760" cy="457524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1397160"/>
            <a:ext cx="8791560" cy="4400280"/>
          </a:xfrm>
          <a:prstGeom prst="triangle">
            <a:avLst>
              <a:gd name="adj" fmla="val 50000"/>
            </a:avLst>
          </a:prstGeom>
          <a:solidFill>
            <a:srgbClr val="2323b9"/>
          </a:solidFill>
          <a:ln w="0">
            <a:noFill/>
          </a:ln>
          <a:effectLst>
            <a:outerShdw dist="17819" dir="2700000" blurRad="0" rotWithShape="0">
              <a:srgbClr val="151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1397160"/>
            <a:ext cx="7315200" cy="366048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0680" y="1397160"/>
            <a:ext cx="5848200" cy="2923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2130480"/>
            <a:ext cx="439092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60680" y="2130480"/>
            <a:ext cx="438768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492280"/>
            <a:ext cx="365760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5360" y="2492280"/>
            <a:ext cx="365436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59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3600360"/>
            <a:ext cx="291780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81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270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66800" y="3600360"/>
            <a:ext cx="291312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65320" y="1535040"/>
            <a:ext cx="1428120" cy="1231200"/>
            <a:chOff x="3865320" y="1535040"/>
            <a:chExt cx="1428120" cy="1231200"/>
          </a:xfrm>
        </p:grpSpPr>
        <p:sp>
          <p:nvSpPr>
            <p:cNvPr id="69" name=""/>
            <p:cNvSpPr/>
            <p:nvPr/>
          </p:nvSpPr>
          <p:spPr>
            <a:xfrm>
              <a:off x="4330080" y="1535040"/>
              <a:ext cx="5158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0160" y="1771560"/>
              <a:ext cx="547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56520" y="1809720"/>
              <a:ext cx="535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68200" y="2008080"/>
              <a:ext cx="5252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empor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4480" y="200808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15840" y="2219400"/>
              <a:ext cx="48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ial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41080" y="2297160"/>
              <a:ext cx="3805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65320" y="2006640"/>
              <a:ext cx="5097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e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3640" y="2508120"/>
              <a:ext cx="369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og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765440" y="4143240"/>
            <a:ext cx="2667960" cy="934200"/>
            <a:chOff x="1765440" y="4143240"/>
            <a:chExt cx="2667960" cy="934200"/>
          </a:xfrm>
        </p:grpSpPr>
        <p:sp>
          <p:nvSpPr>
            <p:cNvPr id="79" name=""/>
            <p:cNvSpPr/>
            <p:nvPr/>
          </p:nvSpPr>
          <p:spPr>
            <a:xfrm>
              <a:off x="2498760" y="4184640"/>
              <a:ext cx="478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03840" y="4737240"/>
              <a:ext cx="529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ul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1640" y="4143240"/>
              <a:ext cx="57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natomy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hysi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75120" y="4433760"/>
              <a:ext cx="5677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mo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ercep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lie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8320" y="4433760"/>
              <a:ext cx="5752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havior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13920" y="4475160"/>
              <a:ext cx="499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du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4920" y="4475160"/>
              <a:ext cx="586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ncept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65440" y="4735440"/>
              <a:ext cx="682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Vehic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ildin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eap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5040" y="4737240"/>
              <a:ext cx="58464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echan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Electr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80360" y="4737240"/>
              <a:ext cx="6271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tera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 of Ar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37280" y="4818240"/>
              <a:ext cx="5374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angua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96840" y="3462480"/>
            <a:ext cx="3533040" cy="1622880"/>
            <a:chOff x="4596840" y="3462480"/>
            <a:chExt cx="3533040" cy="1622880"/>
          </a:xfrm>
        </p:grpSpPr>
        <p:grpSp>
          <p:nvGrpSpPr>
            <p:cNvPr id="91" name=""/>
            <p:cNvGrpSpPr/>
            <p:nvPr/>
          </p:nvGrpSpPr>
          <p:grpSpPr>
            <a:xfrm>
              <a:off x="4596840" y="3462480"/>
              <a:ext cx="2151720" cy="981720"/>
              <a:chOff x="4596840" y="3462480"/>
              <a:chExt cx="2151720" cy="981720"/>
            </a:xfrm>
          </p:grpSpPr>
          <p:sp>
            <p:nvSpPr>
              <p:cNvPr id="92" name=""/>
              <p:cNvSpPr/>
              <p:nvPr/>
            </p:nvSpPr>
            <p:spPr>
              <a:xfrm>
                <a:off x="4596840" y="41860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g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80920" y="346248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c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10840" y="383076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la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63480" y="34624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Types of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81080" y="3830760"/>
              <a:ext cx="1648800" cy="1254600"/>
              <a:chOff x="6481080" y="3830760"/>
              <a:chExt cx="1648800" cy="1254600"/>
            </a:xfrm>
          </p:grpSpPr>
          <p:sp>
            <p:nvSpPr>
              <p:cNvPr id="97" name=""/>
              <p:cNvSpPr/>
              <p:nvPr/>
            </p:nvSpPr>
            <p:spPr>
              <a:xfrm>
                <a:off x="6481080" y="383076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Huma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11920" y="4145040"/>
                <a:ext cx="66672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overnment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-Politic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44800" y="4745160"/>
                <a:ext cx="68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Business,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Milita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63360" y="4516560"/>
                <a:ext cx="32256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Law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812840" y="4186080"/>
            <a:ext cx="2508840" cy="860040"/>
            <a:chOff x="4812840" y="4186080"/>
            <a:chExt cx="2508840" cy="860040"/>
          </a:xfrm>
        </p:grpSpPr>
        <p:sp>
          <p:nvSpPr>
            <p:cNvPr id="102" name=""/>
            <p:cNvSpPr/>
            <p:nvPr/>
          </p:nvSpPr>
          <p:spPr>
            <a:xfrm>
              <a:off x="5457240" y="4186080"/>
              <a:ext cx="573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siness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er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0000" y="4186080"/>
              <a:ext cx="4701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oli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arf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6920" y="4475160"/>
              <a:ext cx="62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fess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Occup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7960" y="4475160"/>
              <a:ext cx="5832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urchas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69600" y="4788000"/>
              <a:ext cx="7524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v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un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75520" y="4788000"/>
              <a:ext cx="71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nsport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Logis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2840" y="4788000"/>
              <a:ext cx="497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16240" y="4788000"/>
              <a:ext cx="505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veryda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97360" y="4437000"/>
              <a:ext cx="698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o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cre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ntertain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93160" y="2486160"/>
            <a:ext cx="2003400" cy="1630440"/>
            <a:chOff x="3593160" y="2486160"/>
            <a:chExt cx="2003400" cy="1630440"/>
          </a:xfrm>
        </p:grpSpPr>
        <p:sp>
          <p:nvSpPr>
            <p:cNvPr id="112" name=""/>
            <p:cNvSpPr/>
            <p:nvPr/>
          </p:nvSpPr>
          <p:spPr>
            <a:xfrm>
              <a:off x="4638960" y="2792520"/>
              <a:ext cx="578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3600" y="3138480"/>
              <a:ext cx="6987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Mov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1880" y="3457440"/>
              <a:ext cx="657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e Ch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ynam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3160" y="3056040"/>
              <a:ext cx="5130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eria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7040" y="3803760"/>
              <a:ext cx="56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39480" y="2746440"/>
              <a:ext cx="537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order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Geome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17600" y="2486160"/>
              <a:ext cx="50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Ev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Scrip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3440" y="250812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5200" y="3076560"/>
              <a:ext cx="53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30040" y="3436920"/>
              <a:ext cx="45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la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10160" y="2287440"/>
            <a:ext cx="3603240" cy="1856880"/>
            <a:chOff x="2810160" y="2287440"/>
            <a:chExt cx="3603240" cy="1856880"/>
          </a:xfrm>
        </p:grpSpPr>
        <p:sp>
          <p:nvSpPr>
            <p:cNvPr id="123" name=""/>
            <p:cNvSpPr/>
            <p:nvPr/>
          </p:nvSpPr>
          <p:spPr>
            <a:xfrm>
              <a:off x="5092560" y="2287440"/>
              <a:ext cx="473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02160" y="2692440"/>
              <a:ext cx="5950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0280" y="2287440"/>
              <a:ext cx="5328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74480" y="2698920"/>
              <a:ext cx="6562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b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0520" y="3776760"/>
              <a:ext cx="6210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Be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4120" y="3054240"/>
              <a:ext cx="599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rg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6720" y="3776760"/>
              <a:ext cx="706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0160" y="3054240"/>
              <a:ext cx="577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41480" y="3436920"/>
            <a:ext cx="3835080" cy="1609200"/>
            <a:chOff x="1041480" y="3436920"/>
            <a:chExt cx="3835080" cy="1609200"/>
          </a:xfrm>
        </p:grpSpPr>
        <p:grpSp>
          <p:nvGrpSpPr>
            <p:cNvPr id="132" name=""/>
            <p:cNvGrpSpPr/>
            <p:nvPr/>
          </p:nvGrpSpPr>
          <p:grpSpPr>
            <a:xfrm>
              <a:off x="2458080" y="3436920"/>
              <a:ext cx="2418480" cy="1325520"/>
              <a:chOff x="2458080" y="3436920"/>
              <a:chExt cx="2418480" cy="1325520"/>
            </a:xfrm>
          </p:grpSpPr>
          <p:sp>
            <p:nvSpPr>
              <p:cNvPr id="133" name=""/>
              <p:cNvSpPr/>
              <p:nvPr/>
            </p:nvSpPr>
            <p:spPr>
              <a:xfrm>
                <a:off x="4267440" y="4449600"/>
                <a:ext cx="609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Soc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Behavi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10840" y="3436920"/>
                <a:ext cx="483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Lif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Form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000" y="4213080"/>
                <a:ext cx="56340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Anima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68680" y="3855960"/>
                <a:ext cx="4748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Plan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58080" y="3490920"/>
                <a:ext cx="5511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Ecolo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041480" y="3830760"/>
              <a:ext cx="1567800" cy="1215360"/>
              <a:chOff x="1041480" y="3830760"/>
              <a:chExt cx="1567800" cy="1215360"/>
            </a:xfrm>
          </p:grpSpPr>
          <p:sp>
            <p:nvSpPr>
              <p:cNvPr id="139" name=""/>
              <p:cNvSpPr/>
              <p:nvPr/>
            </p:nvSpPr>
            <p:spPr>
              <a:xfrm>
                <a:off x="2029320" y="383076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ur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41480" y="4788000"/>
                <a:ext cx="64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Earth &amp;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Solar 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03880" y="418608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olitic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8640" y="4516560"/>
                <a:ext cx="48708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Weath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1886760" y="5281560"/>
            <a:ext cx="53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General Knowledge about Various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3520" y="1434960"/>
            <a:ext cx="30067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yc co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5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edicates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,2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75400" y="1352520"/>
            <a:ext cx="3301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Represented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First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Higher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Context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Micro-the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80" y="5865840"/>
            <a:ext cx="9086760" cy="87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" y="5907240"/>
            <a:ext cx="8817120" cy="7934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0240" y="5721480"/>
            <a:ext cx="4584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pecific data, facts, an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990720"/>
            <a:ext cx="3962520" cy="4038480"/>
            <a:chOff x="380880" y="990720"/>
            <a:chExt cx="3962520" cy="4038480"/>
          </a:xfrm>
        </p:grpSpPr>
        <p:sp>
          <p:nvSpPr>
            <p:cNvPr id="150" name=""/>
            <p:cNvSpPr/>
            <p:nvPr/>
          </p:nvSpPr>
          <p:spPr>
            <a:xfrm flipH="1">
              <a:off x="3196800" y="1143000"/>
              <a:ext cx="99684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30280" y="2819520"/>
              <a:ext cx="206352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99072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880" y="4724280"/>
              <a:ext cx="3049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57200" y="-8748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yc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50800" y="1727280"/>
            <a:ext cx="5808960" cy="4714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ient Record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82560" y="2201760"/>
            <a:ext cx="504828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3664080"/>
            <a:ext cx="67168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508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all patients who had a pericardial aortic valve implanted during an aortic valve replace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85680" y="2479680"/>
            <a:ext cx="7015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patients who had a tumor excision between 1980 and 200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